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AA53-2E91-4E93-A44A-405DE53C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E0EC-4CC8-4889-A246-A31B4D6A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A2F80B-9ECF-4794-8D21-273DDAAD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DB85A1-9B92-480D-A66F-2E9AB7D3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40FCBB-543A-4452-AA12-A072C394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D78F49-1908-4CEE-816A-3F120F38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765767-DC58-467F-B88E-43341B33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049B35-797E-4604-A230-FB8F0DBD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8E74B8-D675-42C6-BAB6-CEDD5AA1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14744C-0CAE-4697-AE49-DAB7D85F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988A7B-1334-43DC-8CD1-B92144B3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BAE9-7F4B-4C50-9853-AA4E8757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A4E-3596-4742-BF9B-56424085C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8FC4D-2551-4A7E-8EBD-AE281D28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5D24D-4232-4F90-8D59-90F31AC0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C459D-298C-4DD5-A326-7778A139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A7968-BECC-4FC6-9055-D85BEE31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A9E9D-4844-404E-8E28-D06BA8FC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D531A-BE32-4318-9780-DB944D33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EF5F2-B5A2-4351-9380-15DF02BB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288-7285-4A35-9157-54F3B58E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DE5E1-F499-47FF-8C49-9100FED3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E4661-93BB-4609-ADE2-40F26FEE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D97B1-0DFF-43E8-827F-A8170E56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78227-5D49-4720-9236-5CDD2856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0B480-5DBA-4634-9515-C51CA0E9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B56A9-B201-4721-BCC7-68D7E2C8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E33C3-030C-4656-9E16-02860870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BF7D8-A696-4E3F-B9AA-FBDD3690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5120A-202A-4178-88A9-167115C5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CCEDB-5099-4EED-B5C5-8EB88FC0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119D-0DE1-4593-91FB-F0D1F791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EDD38-068F-49F7-8CD1-7217CB26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8843D-9A04-49F2-8FDA-1D175E82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218CD-7A6A-4C59-9AF1-54FCC096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1F261-7C93-4FE5-A913-6ADBB531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F7F1F-2CB0-4779-ACCF-569F47D1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9129A-DAD2-458B-8438-6F8DD30A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42F1F-6240-4408-8F5B-9BBB11FA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6A40DC-CC35-46E6-8CAE-51EFE066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0EACEF-B9B6-4C14-9C2A-D8EF0576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A6FD33-936C-4859-A8B1-6E04C813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A75-F0A0-4ED7-BBD6-E9BB2AE3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C1D986-2C92-4D49-AFBF-9F3382FE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427AF0-BE0D-4A02-ACBD-D18FBD0C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6BCC3B-5851-43C4-8C85-EFDA9C4C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9463B2-F65F-47CC-9857-142C6D11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843FBF-FE85-461D-8BF4-91B0EC4B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B6CADA-1C28-4C90-9A08-5EDDE65C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8A9D04-AA8E-47A5-8F5F-FDA4226D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EBA4A6-4511-432B-AC5B-A2DBF9D8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36E8A7-7E3B-4340-BAF4-A0F1E912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14CE0-06F2-4A7C-BA3A-B10E3F7D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9976-7ED4-45D9-94AD-E12DCD43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5E7BC-15A5-4EF9-B04F-E61BB20E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61BEE-E51A-475C-A3A0-638D6C50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1301F-D5EE-4B9D-96FA-C8104A7D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C9F3C-9473-46CA-ADD5-6CA0201C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F6711-258E-4F75-831E-9498450E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DA122-3BD6-4C46-9EA1-3E451BC0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7C4C4-CE0C-4CE6-80C1-1E5BF496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F2DA9-F4C9-4676-B4E3-B9F1E8BB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B47CF-935D-4F61-B757-E17DA12A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7A895-E2D9-4611-B8F2-6358EABB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C55-9235-4CA8-83BA-B114B63D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92332-97DD-492D-8049-21975BB3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03044-7C23-45BC-9ABE-EEC3CF75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750BD-9807-489F-AA47-207C94D4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2CF62-C6E6-4170-87E0-07353A0D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F9143-7004-4647-AEA8-E0AD29D2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4E413-A873-4808-A349-FA2C21E7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7D261-EB8A-4FA0-B65C-80570B7B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6C3D5-137C-4A26-B73A-71DCA87F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95DD4-17D3-4E77-BF26-AA9FAF50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7A707-76BF-4513-84DE-2B8F5BD0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104-16AC-4B59-9BEE-BE1B465E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C438F-9A79-403E-A699-B973A957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58106-5C9B-4EFF-B588-0643E9F0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C6B1D-1A51-4073-B6B0-CB450CE5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BA742-BAE8-42A4-89AA-BEE1F502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DA573-ACFD-4681-B9BA-A94304EF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DA83E-A933-4C36-A5AC-14F363C1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D053C-ADB1-4D7D-B3F9-11FE4180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C8DBE-4C2B-48E0-97B0-7B51E62B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02191-65F5-4CF2-B858-9BD492EE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38FAB-2BCD-4FA3-8B8C-9D533CB0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601D-866A-4FF3-BC20-BCE5C352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A55AB-FFD8-45A1-8EFA-111EB51A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922AB-41CC-4725-BDCF-EF3FB7BE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A1576-4E48-4BF0-89DA-BE493AF6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34F65-08A0-43E6-AFE7-3FBB9354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241BF-4961-4928-9382-F444EE728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7C9C1A-8820-42FD-B3D3-D60EAA7D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305974-B963-433A-9AEC-2BFA1B92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493F5A-81B5-429F-80DD-6AD12CFC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E5F73A-A4C0-4282-B97D-18297F84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BC7766-CEAE-4AD2-88F4-E382E0C1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9964-83B4-4B30-AEB8-7A37D32F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AAB327-2988-4BC3-8163-D23A07FE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6C159F-AE05-417F-9AA2-526A8F0D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B96C4C-2335-4157-B291-497326C8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BCEE72-18A6-43ED-B232-DF7BE2CD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BB592E-22EC-4ABE-824F-B6DA2C4C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8175AF-C535-4365-99FC-B98D0A38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EDCCE6-9A40-40E1-9720-6FCB9863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C998C5-CAAB-49A2-984D-9E7D0CB7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0F6A61-3228-44D3-8279-A1366032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314550-602B-4851-8F55-7925681A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5D7E-3890-49DF-98B1-B1AD7E55EDC5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CFCC-CA52-4011-9262-91F5D9BB7F0D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08EC-AADA-4736-97DC-4B829789EE77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B1B5-3728-4D64-9AA3-2454FD3456DC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1E44-4951-459A-B871-8E21501D3A1A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6B65-678E-4360-AE52-EC70E8A36C5C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C5D3-68CB-44CF-B204-85E7822962F1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AE1C-5367-4886-BF75-84A6F05926D0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F589-0BBB-4989-8E6A-48F4D7BF1CE6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PQuestion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620200" cy="14763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Get plenty of detentions in class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04000" indent="-50400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Begin studying early and reviewing often </a:t>
            </a:r>
            <a:r>
              <a:rPr b="0" lang="en-US" sz="2800" spc="-1" strike="noStrike">
                <a:solidFill>
                  <a:srgbClr val="ff0000"/>
                </a:solidFill>
                <a:latin typeface="Rockwell"/>
              </a:rPr>
              <a:t>(correct answer)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04000" indent="-50400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at your study guide without looking at it first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504000" indent="-50400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Bring Mrs. Oehler a cookie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PQuestion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626680" cy="14763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533520" y="12193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42080" indent="-44208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Only lasted a few years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442080" indent="-44208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as marked by great bloodshed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442080" indent="-44208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unified China, ending a period of conflict between kingdoms </a:t>
            </a:r>
            <a:r>
              <a:rPr b="0" lang="en-US" sz="2800" spc="-1" strike="noStrike">
                <a:solidFill>
                  <a:srgbClr val="ff0000"/>
                </a:solidFill>
                <a:latin typeface="Rockwell"/>
              </a:rPr>
              <a:t>(correct answer)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442080" indent="-44208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as a period of few cultural accomplishment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Content Placeholder 2" descr=""/>
          <p:cNvPicPr/>
          <p:nvPr/>
        </p:nvPicPr>
        <p:blipFill>
          <a:blip r:embed="rId2"/>
          <a:stretch/>
        </p:blipFill>
        <p:spPr>
          <a:xfrm>
            <a:off x="390600" y="1560600"/>
            <a:ext cx="834552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Cities and Trade: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urplus crops allows Chinese to focus on other things as well (education, medicine, art, etc.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rade grows along with population in citie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Grand Canal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increases trade within China – allows remote rural areas to transport crops to citie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hina expands trade (Silk Roads) – 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tea, rice, spices, jade, silk, porcelain = all big exports for China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ong Dynasty – sea trade becomes more common = greater connection with more distant lands (Europe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PQuestion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60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rice of goods increased throughout China 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(correct answer)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93560" indent="-493560">
              <a:spcBef>
                <a:spcPts val="60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ncreased food production supported population growth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93560" indent="-493560">
              <a:spcBef>
                <a:spcPts val="60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ities grew throughout China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93560" indent="-493560">
              <a:spcBef>
                <a:spcPts val="60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he Chinese were able to devote more time to other things, leading new achievement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Inventions: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Woodblock Printing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– form of printing where entire pages are carved into a block of wood. (Tang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9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Precursor to the printing press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9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llowed written sources to be more widely available – expansion of ideas, information, technology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Gunpowder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– originally used for fireworks, this item was eventually used for firearms (guns) and cannons = changed the history of war. (Tang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Compass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– Instrument using earth’s magnetic pull to show direction = revolutionized travel, trade, etc. (Tang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55320" cy="11588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Confucianism: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20280" indent="-2214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eachings on ethics, proper behavior, etc. – translates to government structure in China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20280" indent="-2214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Ren (concern for others) / Li (appropriate behavior)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20280" indent="-2214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opular during Han Dynasty – loses influence during Period of Disunion (Buddhism takes center stage)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20280" indent="-2214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Late Tang Dynasty = return of interest in Confucianism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20280" indent="-2214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Neo-Confucianism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= develops during Tang to combine ideas of Confucianism (behavior and conduct) with spiritual components of Buddhism and Daoism (meaning of life)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4" marL="1151640" indent="-17676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Begins under Tang but becomes influential under Song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4" marL="1151640" indent="-17676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Official government policy of the Song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1" marL="620280" indent="-2214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55320" cy="11588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Scholar-Officials: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ong Dynasty = improves efficiency of government through development of </a:t>
            </a:r>
            <a:r>
              <a:rPr b="0" lang="en-US" sz="2000" spc="-1" strike="noStrike">
                <a:solidFill>
                  <a:srgbClr val="ff0000"/>
                </a:solidFill>
                <a:latin typeface="Rockwell"/>
              </a:rPr>
              <a:t>Bureaucracy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Rockwell"/>
              </a:rPr>
              <a:t>Bureaucracy = body of unelected government officials (selected by leaders to be official advisors)</a:t>
            </a:r>
            <a:endParaRPr b="0" lang="en-US" sz="15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ong develop civil service exam (</a:t>
            </a:r>
            <a:r>
              <a:rPr b="0" lang="en-US" sz="2000" spc="-1" strike="noStrike">
                <a:solidFill>
                  <a:srgbClr val="ff0000"/>
                </a:solidFill>
                <a:latin typeface="Rockwell"/>
              </a:rPr>
              <a:t>civil service 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= service to society as a government official) to help choose officials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Passing civil service exam meant life as a Scholar-Officia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Rockwell"/>
              </a:rPr>
              <a:t>Respected, educated member of the government.  </a:t>
            </a:r>
            <a:endParaRPr b="0" lang="en-US" sz="15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ivil service exam = symbolized a shift towards “</a:t>
            </a:r>
            <a:r>
              <a:rPr b="0" lang="en-US" sz="2000" spc="-1" strike="noStrike">
                <a:solidFill>
                  <a:srgbClr val="ff0000"/>
                </a:solidFill>
                <a:latin typeface="Rockwell"/>
              </a:rPr>
              <a:t>meritocracy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” where people’s success in society was determined by their hard work and effort (earning what they receive).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Idea of meritocracy is not popular with “</a:t>
            </a:r>
            <a:r>
              <a:rPr b="0" lang="en-US" sz="2000" spc="-1" strike="noStrike">
                <a:solidFill>
                  <a:srgbClr val="ff0000"/>
                </a:solidFill>
                <a:latin typeface="Rockwell"/>
              </a:rPr>
              <a:t>aristocracy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” (wealthy members of society who had previously ruled China) – felt their power/wealth would be threatened by new system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PQuestion" descr=""/>
          <p:cNvPicPr/>
          <p:nvPr/>
        </p:nvPicPr>
        <p:blipFill>
          <a:blip r:embed="rId1"/>
          <a:stretch/>
        </p:blipFill>
        <p:spPr>
          <a:xfrm>
            <a:off x="433440" y="268200"/>
            <a:ext cx="841212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60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t created stability and an efficient government</a:t>
            </a: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 (correct answer)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88520" indent="-488520">
              <a:spcBef>
                <a:spcPts val="60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t created a government in which nothing was accomplished due to mismanagement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88520" indent="-488520">
              <a:spcBef>
                <a:spcPts val="60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t created sharp divisions within society, eventually leading to a civil war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488520" indent="-488520">
              <a:spcBef>
                <a:spcPts val="60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t created a very unstable government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Rockwell"/>
              </a:rPr>
              <a:t>Mongols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Nomadic tribes from plains north of China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Known for being talented horsemen and warriors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First powerful leader of Mongols (known as a Khan) to unite all Mongol tribes was </a:t>
            </a:r>
            <a:r>
              <a:rPr b="0" lang="en-US" sz="2200" spc="-1" strike="noStrike">
                <a:solidFill>
                  <a:srgbClr val="ff0000"/>
                </a:solidFill>
                <a:latin typeface="Rockwell"/>
              </a:rPr>
              <a:t>Genghis Khan</a:t>
            </a: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9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Genghis Khan </a:t>
            </a: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= amassed a large army that conquered all of north China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9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Rockwell"/>
              </a:rPr>
              <a:t>Kublai Khan </a:t>
            </a: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= grandson of Genghis Khan; conquered remainder of China and created the Mongol Empire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Kublai Khan named himself Emperor of China – this started the </a:t>
            </a:r>
            <a:r>
              <a:rPr b="0" lang="en-US" sz="2700" spc="-1" strike="noStrike">
                <a:solidFill>
                  <a:srgbClr val="ff0000"/>
                </a:solidFill>
                <a:latin typeface="Rockwell"/>
              </a:rPr>
              <a:t>Yuan Dynasty</a:t>
            </a: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Rockwell"/>
              </a:rPr>
              <a:t>Chinese saw Mongols as rude and uncivilized = resented being controlled by the Mongols.</a:t>
            </a: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9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Rockwell"/>
              </a:rPr>
              <a:t>Yuan control of China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Mongols do not force Chinese to change, but they do maintain control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Confucian scholars are kept from gaining too much power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ongols placed heavy taxes on Chinese – these taxes were used to fund public-works projects (like extending the Grand Canal)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ongol soldiers are sent throughout China to maintain peace and keep an eye on Chinese (prevent uprisings)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Mongols encourage trade with foreigners (Europeans)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Example:  </a:t>
            </a:r>
            <a:r>
              <a:rPr b="0" lang="en-US" sz="1800" spc="-1" strike="noStrike">
                <a:solidFill>
                  <a:srgbClr val="ff0000"/>
                </a:solidFill>
                <a:latin typeface="Rockwell"/>
              </a:rPr>
              <a:t>Marco Polo 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– famous trader from Italy.  Much of what we know about China is as a result of his writings about his journeys to China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lnSpc>
                <a:spcPct val="80000"/>
              </a:lnSpc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arco Polo helps change perception of China  - writings showed that they were advanced and not barbarians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nit Review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Rockwell"/>
              </a:rPr>
              <a:t>Yuan Dynasty Collapses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Mongols = unhappy with their land – desire to conquer Japan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ttempts at conquering Japan are unsuccessful = Mongol army is weakened in the process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hinese economy is weakened by Mongol public-works projects (example: Grand Canal expansion)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hinese are upset with Mongol rule and failed economy – Mongol army is weakened due failed conquest of Japan = people revolt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Chinese are able to overthrow Mongols and regain control of their land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PQuestion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517240" cy="11826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xecuting educated scholar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483480" indent="-48348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Making the Chinese pay large taxes </a:t>
            </a:r>
            <a:r>
              <a:rPr b="0" lang="en-US" sz="2800" spc="-1" strike="noStrike">
                <a:solidFill>
                  <a:srgbClr val="ff0000"/>
                </a:solidFill>
                <a:latin typeface="Rockwell"/>
              </a:rPr>
              <a:t>(correct answer)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483480" indent="-48348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aising prices on rice to keep Chinese poor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483480" indent="-483480">
              <a:spcBef>
                <a:spcPts val="700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liminating all public works projects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Rockwell"/>
              </a:rPr>
              <a:t>Ming Dynasty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594720" indent="-2124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ing Dynasty focuses on exploration and ship building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104120" indent="-16956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Rockwell"/>
              </a:rPr>
              <a:t>Greatest sailor and explorer of Ming Dynasty was </a:t>
            </a:r>
            <a:r>
              <a:rPr b="0" lang="en-US" sz="1900" spc="-1" strike="noStrike">
                <a:solidFill>
                  <a:srgbClr val="ff0000"/>
                </a:solidFill>
                <a:latin typeface="Rockwell"/>
              </a:rPr>
              <a:t>Zheng He</a:t>
            </a:r>
            <a:r>
              <a:rPr b="0" lang="en-US" sz="19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4" marL="1104120" indent="-16956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Rockwell"/>
              </a:rPr>
              <a:t>Traveled as far as Persian Gulf and Africa.  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4" marL="1104120" indent="-16956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Rockwell"/>
              </a:rPr>
              <a:t>Voyages served as a sign of China’s power and advanced culture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1" marL="594720" indent="-2124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Ming also known for their grand building projects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104120" indent="-16956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Rockwell"/>
              </a:rPr>
              <a:t>Forbidden City (built in Beijing) = palace in northern China designed to display China’s glory and intimidate northern neighbors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4" marL="1104120" indent="-16956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Rockwell"/>
              </a:rPr>
              <a:t>Restoration and expansion of the </a:t>
            </a:r>
            <a:r>
              <a:rPr b="0" lang="en-US" sz="1900" spc="-1" strike="noStrike">
                <a:solidFill>
                  <a:srgbClr val="ff0000"/>
                </a:solidFill>
                <a:latin typeface="Rockwell"/>
              </a:rPr>
              <a:t>Great Wall </a:t>
            </a:r>
            <a:r>
              <a:rPr b="0" lang="en-US" sz="1900" spc="-1" strike="noStrike">
                <a:solidFill>
                  <a:srgbClr val="ffffff"/>
                </a:solidFill>
                <a:latin typeface="Rockwell"/>
              </a:rPr>
              <a:t>of China – designed to protect Chinese people from northern tribes.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ing Dynasty moves towards </a:t>
            </a:r>
            <a:r>
              <a:rPr b="0" lang="en-US" sz="3200" spc="-1" strike="noStrike">
                <a:solidFill>
                  <a:srgbClr val="ff0000"/>
                </a:solidFill>
                <a:latin typeface="Rockwell"/>
              </a:rPr>
              <a:t>Isolation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Having expelled the Mongols, Ming emperors sought to get rid of all foreigners/foreign influence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Believed it would lead to greater safety and prosperity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Government: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Ming emperors = much more powerful that emperors of Tang or Song dynasty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Rockwell"/>
              </a:rPr>
              <a:t>Emperors take over more control of government – use civil service officials as imperial staff.</a:t>
            </a:r>
            <a:endParaRPr b="0" lang="en-US" sz="23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solationism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1430’s = Zheng He required to return to China and dismantle fleet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Official policy of </a:t>
            </a:r>
            <a:r>
              <a:rPr b="0" lang="en-US" sz="2600" spc="-1" strike="noStrike">
                <a:solidFill>
                  <a:srgbClr val="ff0000"/>
                </a:solidFill>
                <a:latin typeface="Rockwell"/>
              </a:rPr>
              <a:t>Isolationism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 put into effect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onsequences = Western world makes large advances in education, technology, etc.  - China does not progress as much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After the last Ming emperor is overthrown, China finds itself behind the rest of the world due to isolationism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cxnSp>
        <p:nvCxnSpPr>
          <p:cNvPr id="399" name="Straight Arrow Connector 4"/>
          <p:cNvCxnSpPr/>
          <p:nvPr/>
        </p:nvCxnSpPr>
        <p:spPr>
          <a:xfrm flipV="1">
            <a:off x="457200" y="3909240"/>
            <a:ext cx="8230320" cy="2520"/>
          </a:xfrm>
          <a:prstGeom prst="straightConnector1">
            <a:avLst/>
          </a:prstGeom>
          <a:ln w="9360">
            <a:solidFill>
              <a:srgbClr val="67936a"/>
            </a:solidFill>
            <a:miter/>
            <a:headEnd len="med" type="arrow" w="med"/>
            <a:tailEnd len="med" type="arrow" w="med"/>
          </a:ln>
        </p:spPr>
      </p:cxnSp>
      <p:sp>
        <p:nvSpPr>
          <p:cNvPr id="400" name="TextBox 5"/>
          <p:cNvSpPr/>
          <p:nvPr/>
        </p:nvSpPr>
        <p:spPr>
          <a:xfrm>
            <a:off x="53352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Han Dynas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1676520" y="31240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Period of Dis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"/>
          <p:cNvSpPr/>
          <p:nvPr/>
        </p:nvSpPr>
        <p:spPr>
          <a:xfrm>
            <a:off x="5181480" y="3124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Song Dynas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8"/>
          <p:cNvSpPr/>
          <p:nvPr/>
        </p:nvSpPr>
        <p:spPr>
          <a:xfrm>
            <a:off x="2971800" y="31240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Sui Dynas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9"/>
          <p:cNvSpPr/>
          <p:nvPr/>
        </p:nvSpPr>
        <p:spPr>
          <a:xfrm>
            <a:off x="4114800" y="31240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Tang Dynas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10"/>
          <p:cNvSpPr/>
          <p:nvPr/>
        </p:nvSpPr>
        <p:spPr>
          <a:xfrm>
            <a:off x="6400800" y="31240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Yuan Dynas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11"/>
          <p:cNvSpPr/>
          <p:nvPr/>
        </p:nvSpPr>
        <p:spPr>
          <a:xfrm>
            <a:off x="7467480" y="31240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ing Dynas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Rockwell"/>
              </a:rPr>
              <a:t>Confucianism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Practical philosophy on life and government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Deals with 5 key relationships (ruler/subject; parent/child; husband/wife; sibling/sibling; friend/friend)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Focused on traditions of respect and hard work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Rockwell"/>
              </a:rPr>
              <a:t>Buddhism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Arrives in China from India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Teaches that the world is essentially suffering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All people are on a path towards enlightenment (Nirvana)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Essential part of achieving enlightenment is overcoming personal desires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Rockwell"/>
              </a:rPr>
              <a:t>Daoism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Believe that society prospers when people have harmony with nature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Correct path (the Way or the Dao) is found in harmony between oneself and nature.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Yin / Yang: opposing forces (light/dark; cold/heat; etc.)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PQuestion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626680" cy="147636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45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Buddhism stressed military honor and Confucianism stresses charitable deeds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493560" indent="-493560">
              <a:spcBef>
                <a:spcPts val="45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Confucianism stresses ethical behavior and Buddhism stresses a spiritual outlook that promises escape from suffering </a:t>
            </a:r>
            <a:r>
              <a:rPr b="0" lang="en-US" sz="1800" spc="-1" strike="noStrike">
                <a:solidFill>
                  <a:srgbClr val="ff0000"/>
                </a:solidFill>
                <a:latin typeface="Rockwell"/>
              </a:rPr>
              <a:t>(correct answer).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493560" indent="-493560">
              <a:spcBef>
                <a:spcPts val="45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Buddhism teaches people to value public service while Confucianism teaches that personal satisfaction is most important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  <a:p>
            <a:pPr marL="493560" indent="-493560">
              <a:spcBef>
                <a:spcPts val="451"/>
              </a:spcBef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Confucianism places high value on artistic talents and Buddhism teaches one to ignore art.</a:t>
            </a: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After Han Dynasty collapses – China splits into several rival kingdoms (</a:t>
            </a:r>
            <a:r>
              <a:rPr b="0" lang="en-US" sz="3000" spc="-1" strike="noStrike">
                <a:solidFill>
                  <a:srgbClr val="ff0000"/>
                </a:solidFill>
                <a:latin typeface="Rockwell"/>
              </a:rPr>
              <a:t>Period of Disunion</a:t>
            </a: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Rockwell"/>
              </a:rPr>
              <a:t>Period of Disunion:</a:t>
            </a:r>
            <a:endParaRPr b="0" lang="en-US" sz="3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New nomads settle in N. China – Many N. Chinese move to S. China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Cultural blending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leads to new types of art, music, clothing, food, etc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8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Rockwell"/>
              </a:rPr>
              <a:t>Buddhism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becomes popular belief – liked Buddhism’s teaching that people could escape/overcome suffering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Rockwell"/>
              </a:rPr>
              <a:t>Sui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Dynasty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Ended Period of Disunion – Emperor </a:t>
            </a:r>
            <a:r>
              <a:rPr b="0" lang="en-US" sz="2600" spc="-1" strike="noStrike">
                <a:solidFill>
                  <a:srgbClr val="ff0000"/>
                </a:solidFill>
                <a:latin typeface="Rockwell"/>
              </a:rPr>
              <a:t>Yang Jia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Began the building of the </a:t>
            </a:r>
            <a:r>
              <a:rPr b="0" lang="en-US" sz="2600" spc="-1" strike="noStrike">
                <a:solidFill>
                  <a:srgbClr val="ff0000"/>
                </a:solidFill>
                <a:latin typeface="Rockwell"/>
              </a:rPr>
              <a:t>Grand Canal 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o connect northern and southern China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spcBef>
                <a:spcPts val="400"/>
              </a:spcBef>
              <a:buClr>
                <a:srgbClr val="a8cdd7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Rockwell"/>
              </a:rPr>
              <a:t>Grand Canal connects major cities and major rivers – leads to easier transportation (trade, cultural blending, spreading ideas/technology)</a:t>
            </a: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Rockwell"/>
              </a:rPr>
              <a:t>Tang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Dynasty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arge scale growth of controlled land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Golden Age” of China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Unified China by: military reform, law codes, land reform (equal field system)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Included only woman to rule China (Empress Wu)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Rockwell"/>
              </a:rPr>
              <a:t>Song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Dynasty: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Reunified China again after brief period of chaos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ike Tang Dynasty, the Song Dynasty was a period of great accomplishment.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36:48Z</dcterms:created>
  <dc:creator>sduhsd</dc:creator>
  <dc:description/>
  <dc:language>en-US</dc:language>
  <cp:lastModifiedBy>Christine Miller</cp:lastModifiedBy>
  <dcterms:modified xsi:type="dcterms:W3CDTF">2011-10-31T15:12:30Z</dcterms:modified>
  <cp:revision>66</cp:revision>
  <dc:subject/>
  <dc:title>Chapter 7: China</dc:title>
</cp:coreProperties>
</file>